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31E2-3E0A-4C60-AC94-0F32F75B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E315-FC6D-4693-9A68-6F1D1251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367-62F3-434F-BA51-3D5FB06C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EF7-0F93-4620-B7BB-3424FE3C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72D-B830-4EE4-BC06-AE9FFB15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256B-0927-4FFF-AC6E-67D1D241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DC7A-D321-4FC9-ABD7-BDA4D4EB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D5DB-0BB6-4902-8445-21FA31A0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26BE-1A3F-4459-8481-93689CC4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6967-5BBB-4FAE-976F-E1CFC391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B5E4-0348-4781-ADB3-6697467D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C5C8-3141-44FF-B5B0-8E871647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DE575-5220-4FA1-99B6-4A9429071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0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First-row d-block elem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9414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sections 8 and 9 in your IB data booklet to compare the trend and the extent of the trend for atomic radius, first ionization energy and electronegativity between the 8 elements in period 3 and the 10 elements in the first row in the d-blo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characteristic properties do the first row d-block elements ha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 and contrast their properties with potassium and calci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iron, nickel, manganese used for? Use an interactive periodic 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809880" y="4137120"/>
            <a:ext cx="5139000" cy="2720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888840" y="4594320"/>
            <a:ext cx="2463840" cy="22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58752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mplex 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4600" y="1612440"/>
            <a:ext cx="88171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x ions are form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a metal ion to which a number of ligands (molecules and/or negative ions) are bonded using a dative b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Ligand = molecule or negative ion with a non-bonding pair of electrons which is used to make a dative b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[Fe(H</a:t>
            </a:r>
            <a:r>
              <a:rPr b="0" lang="en-GB" sz="40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O)</a:t>
            </a:r>
            <a:r>
              <a:rPr b="0" lang="en-GB" sz="4000" spc="-1" strike="noStrike" baseline="-25000">
                <a:solidFill>
                  <a:srgbClr val="0000ff"/>
                </a:solidFill>
                <a:latin typeface="Calibri"/>
              </a:rPr>
              <a:t>6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0" lang="en-GB" sz="4000" spc="-1" strike="noStrike" baseline="30000">
                <a:solidFill>
                  <a:srgbClr val="0000ff"/>
                </a:solidFill>
                <a:latin typeface="Calibri"/>
              </a:rPr>
              <a:t>3+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number is the number of ligands that surround the metal 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aming complex 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054080"/>
          <a:ext cx="8375760" cy="5560920"/>
        </p:xfrm>
        <a:graphic>
          <a:graphicData uri="http://schemas.openxmlformats.org/drawingml/2006/table">
            <a:tbl>
              <a:tblPr/>
              <a:tblGrid>
                <a:gridCol w="4187880"/>
                <a:gridCol w="4187880"/>
              </a:tblGrid>
              <a:tr h="563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 of lig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     -   aqu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-  mo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hydrox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- 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amm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- t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              -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hlo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- tet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3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-  bro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- p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2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-  cya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– h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8832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name the number and then the ligand before naming the metal e.g. hexaaquairon (III) 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use the name of the metal if the ion is positive but use –ate ending if negative e.g. ferrate, cuprate, vanada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ore examples complex 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Fe(CN)</a:t>
                      </a:r>
                      <a:r>
                        <a:rPr b="0" lang="en-GB" sz="3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</a:t>
                      </a:r>
                      <a:r>
                        <a:rPr b="0" lang="en-GB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-</a:t>
                      </a: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Fe(H</a:t>
                      </a:r>
                      <a:r>
                        <a:rPr b="0" lang="en-GB" sz="3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)</a:t>
                      </a:r>
                      <a:r>
                        <a:rPr b="0" lang="en-GB" sz="3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</a:t>
                      </a:r>
                      <a:r>
                        <a:rPr b="0" lang="en-GB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+</a:t>
                      </a: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CuCl</a:t>
                      </a:r>
                      <a:r>
                        <a:rPr b="0" lang="en-GB" sz="3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</a:t>
                      </a:r>
                      <a:r>
                        <a:rPr b="0" lang="en-GB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-</a:t>
                      </a: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Cu(NH</a:t>
                      </a:r>
                      <a:r>
                        <a:rPr b="0" lang="en-GB" sz="3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GB" sz="3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</a:t>
                      </a:r>
                      <a:r>
                        <a:rPr b="0" lang="en-GB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+</a:t>
                      </a: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Ag(NH</a:t>
                      </a:r>
                      <a:r>
                        <a:rPr b="0" lang="en-GB" sz="3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GB" sz="3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</a:t>
                      </a:r>
                      <a:r>
                        <a:rPr b="0" lang="en-GB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63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 on the ion is the sum of the charges of the metal ion and the ligand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 out the charge of each metal ion in each of the complexes above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6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hapes of complex 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960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pends on coordination numb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f 6        then shape  = octahed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f 4        then shape  = tetrahedra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or square planar = less commo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f 2        then shape  = line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93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hapes of complex 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270400" y="893880"/>
            <a:ext cx="3743280" cy="3381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130320" y="1049400"/>
            <a:ext cx="3627360" cy="3225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3022560" y="3873600"/>
            <a:ext cx="3772080" cy="29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mplex ions: types of ligands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odentate             polyden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3" descr=""/>
          <p:cNvPicPr/>
          <p:nvPr/>
        </p:nvPicPr>
        <p:blipFill>
          <a:blip r:embed="rId1"/>
          <a:srcRect l="-2043" t="-21701" r="-66729" b="-20077"/>
          <a:stretch/>
        </p:blipFill>
        <p:spPr>
          <a:xfrm>
            <a:off x="457200" y="1600200"/>
            <a:ext cx="750744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5246640" y="2425680"/>
            <a:ext cx="3897360" cy="3176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4572000" y="5802480"/>
            <a:ext cx="43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,2-ethanediam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76720" y="60120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ydentate lig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Content Placeholder 3" descr=""/>
          <p:cNvPicPr/>
          <p:nvPr/>
        </p:nvPicPr>
        <p:blipFill>
          <a:blip r:embed="rId1"/>
          <a:stretch/>
        </p:blipFill>
        <p:spPr>
          <a:xfrm>
            <a:off x="73080" y="601560"/>
            <a:ext cx="4213080" cy="2826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130680" y="3247920"/>
            <a:ext cx="34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any ligand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4668840" y="1916280"/>
            <a:ext cx="4137120" cy="33652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5076720" y="5281560"/>
            <a:ext cx="37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TA; each molecule can form 6 dative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936720" y="4046400"/>
            <a:ext cx="2292120" cy="20275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8"/>
          <p:cNvSpPr/>
          <p:nvPr/>
        </p:nvSpPr>
        <p:spPr>
          <a:xfrm>
            <a:off x="83520" y="6180120"/>
            <a:ext cx="419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anedioate, biden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TA as part of a compl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Content Placeholder 3" descr=""/>
          <p:cNvPicPr/>
          <p:nvPr/>
        </p:nvPicPr>
        <p:blipFill>
          <a:blip r:embed="rId1"/>
          <a:stretch/>
        </p:blipFill>
        <p:spPr>
          <a:xfrm>
            <a:off x="3657600" y="274680"/>
            <a:ext cx="4668840" cy="63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9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e the charge on each complex ion – where the      charge of the ion is not mentioned also determine t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88640" y="1347840"/>
            <a:ext cx="895500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Fe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   metal ion =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Fe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]   metal ion =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   metal ion =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Mn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o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[Fe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 (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Co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 = 3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(CN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 and Mn = 2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3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2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First-row d-block elem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560" y="1417680"/>
            <a:ext cx="8381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 oxidation states e.g.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 complex ions e.g.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[Cu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 coloured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act as cataly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 magnetic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6257880" y="3200400"/>
            <a:ext cx="2428920" cy="1911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232000" y="4965840"/>
            <a:ext cx="380988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ured comp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1" descr=""/>
          <p:cNvPicPr/>
          <p:nvPr/>
        </p:nvPicPr>
        <p:blipFill>
          <a:blip r:embed="rId1"/>
          <a:srcRect l="0" t="-7640" r="0" b="-7640"/>
          <a:stretch/>
        </p:blipFill>
        <p:spPr>
          <a:xfrm>
            <a:off x="133200" y="1143000"/>
            <a:ext cx="8813880" cy="549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3720" y="3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loured complex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84240" y="1852560"/>
            <a:ext cx="8908920" cy="42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409680"/>
            <a:ext cx="2214720" cy="17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lour whe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Content Placeholder 3" descr=""/>
          <p:cNvPicPr/>
          <p:nvPr/>
        </p:nvPicPr>
        <p:blipFill>
          <a:blip r:embed="rId1"/>
          <a:srcRect l="-14347" t="0" r="-13783" b="0"/>
          <a:stretch/>
        </p:blipFill>
        <p:spPr>
          <a:xfrm>
            <a:off x="1130400" y="0"/>
            <a:ext cx="8880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plitting d-sublevel in Cu</a:t>
            </a:r>
            <a:r>
              <a:rPr b="1" lang="en-US" sz="4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8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octahedral 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Content Placeholder 3" descr=""/>
          <p:cNvPicPr/>
          <p:nvPr/>
        </p:nvPicPr>
        <p:blipFill>
          <a:blip r:embed="rId1"/>
          <a:srcRect l="0" t="5356" r="0" b="5356"/>
          <a:stretch/>
        </p:blipFill>
        <p:spPr>
          <a:xfrm>
            <a:off x="192240" y="1889280"/>
            <a:ext cx="89517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loured compound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2141640"/>
            <a:ext cx="8397720" cy="39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factors will affect the colour (or difference in energy, ∆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tween the 2 sets of d orbitals in a split d-sublevel) of a transition metal compou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55404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xidation state of metal 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he greater the oxidation state, the lower the distance between the ligand and met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ature of ligan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ifferent repulsion/greater split e.g. by less electronegative atoms or ligands with greater charge density )(see spectrochemical ser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dentity of metal ion/nuclear charg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ttraction between nucleus and non-bonding pai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ordination number/number of liga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ape of the complex 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ured ions: factors affecting col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457200" y="1417680"/>
            <a:ext cx="785988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lour complex ions: examp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57200" y="1859040"/>
            <a:ext cx="822960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3760" y="1335240"/>
            <a:ext cx="866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 the graphs on the next slide and use them together with the colour wheel in your textbook to identify the colour shown by each complex 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information below about each ligand to identify which graph shows the absorption of ligand A and B. Justify your answ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gand A: more electronegative; holds electrons more closely to nucl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gand B: less electroneg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ure of lig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Content Placeholder 1" descr="Screen Shot 2015-12-02 at 9.19.10 AM.png"/>
          <p:cNvPicPr/>
          <p:nvPr/>
        </p:nvPicPr>
        <p:blipFill>
          <a:blip r:embed="rId1"/>
          <a:srcRect l="-33494" t="0" r="-33494" b="0"/>
          <a:stretch/>
        </p:blipFill>
        <p:spPr>
          <a:xfrm>
            <a:off x="133200" y="1417680"/>
            <a:ext cx="9134640" cy="50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lectron configu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5" descr="Screen Shot 2014-11-18 at 7.42.22 PM.png"/>
          <p:cNvPicPr/>
          <p:nvPr/>
        </p:nvPicPr>
        <p:blipFill>
          <a:blip r:embed="rId1"/>
          <a:stretch/>
        </p:blipFill>
        <p:spPr>
          <a:xfrm>
            <a:off x="0" y="1635120"/>
            <a:ext cx="9144000" cy="47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pectrochemical ser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92240" y="1417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e data bookl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further up the series, the greater the difference in energy between the 2 sets of d orbital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ion forms an octahedral complex with 2 neutral ligands X and Y.  The colour of Cr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is blue while that of Cr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is yellow. Which ligand is higher up the serie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agnetic propert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38284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l substances can be divided up according to the effect they experience and show when placed in an external magnetic fiel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Diamagnetic partic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6000" y="1600200"/>
            <a:ext cx="8712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Weakly repelled by external mag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paired d-electrons and therefore create a magnetic field opposed or not aligned to an external fie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paired electrons cancel out each other’s magnetic field so there is no net magnetic moment in the atom or 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amples of diamagnetic materials in the first row d-block elements:  Zn and Zn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611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aramagnetic partic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0080" y="1515960"/>
            <a:ext cx="849636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Attracted weakly to a magnetic fie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toms or ions that contain unpaired d electrons behave like small magnets. Because of their spin electrons create a magnetic field that can align itself to an external electric or magnetic field when exposed to it; unpaired electrons can do this because they can spin in any direction – they create a net magnetic mo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ramagnetic parti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7760" y="1600200"/>
            <a:ext cx="897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greater the number of unpaired electrons the more paramagnetic the material. The alignment is only temporary so they are only magnetic for a short period of ti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amples of paramagnetic materials in the first row d-block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toms: all apart from Zn.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ons e.g. in compounds and complexes: e.g. 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has 5 unpaired electrons, Co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(3 unpaired electrons), Ni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alibri"/>
              </a:rPr>
              <a:t>2+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2 unpaired electrons),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( unpaired electrons)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Ferromagne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Calibri"/>
              </a:rPr>
              <a:t>Ferromagnetic material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have unpaired electrons but can be made to order over a large range and by doing so produce a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permanent magnet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xamples of ferromagnetic materials are iron, cobalt and nicke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ition metals cataly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1732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talysts lower activation energ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lowing a chemical reaction to go fast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Catalysts are not used u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terogenous catalyst: different phase as reacta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mogenous catalyst: same pha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ition metals as cataly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nsition metals are good catalysts becau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y have the availability of 3d and 4s electrons and similar successive ionization energies which allow them t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easily between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fferent oxidation states (homogenous cataly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empty orbital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can be used to make temporary bonds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heterogenous catalysts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terogenous catalysi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69560" y="1200240"/>
            <a:ext cx="8821800" cy="54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ickel in the conversion of alkenes into alkan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GB" sz="2300" spc="-1" strike="noStrike">
                <a:solidFill>
                  <a:srgbClr val="ff6600"/>
                </a:solidFill>
                <a:latin typeface="Calibri"/>
              </a:rPr>
              <a:t>C</a:t>
            </a:r>
            <a:r>
              <a:rPr b="0" lang="en-US" sz="2300" spc="-1" strike="noStrike" baseline="-25000">
                <a:solidFill>
                  <a:srgbClr val="ff6600"/>
                </a:solidFill>
                <a:latin typeface="Calibri"/>
              </a:rPr>
              <a:t>2</a:t>
            </a:r>
            <a:r>
              <a:rPr b="0" lang="en-US" sz="2300" spc="-1" strike="noStrike">
                <a:solidFill>
                  <a:srgbClr val="ff6600"/>
                </a:solidFill>
                <a:latin typeface="Calibri"/>
              </a:rPr>
              <a:t>H</a:t>
            </a:r>
            <a:r>
              <a:rPr b="0" lang="en-US" sz="2300" spc="-1" strike="noStrike" baseline="-25000">
                <a:solidFill>
                  <a:srgbClr val="ff6600"/>
                </a:solidFill>
                <a:latin typeface="Calibri"/>
              </a:rPr>
              <a:t>4</a:t>
            </a:r>
            <a:r>
              <a:rPr b="0" lang="en-US" sz="2300" spc="-1" strike="noStrike">
                <a:solidFill>
                  <a:srgbClr val="ff6600"/>
                </a:solidFill>
                <a:latin typeface="Calibri"/>
              </a:rPr>
              <a:t> (g)</a:t>
            </a:r>
            <a:r>
              <a:rPr b="0" lang="en-GB" sz="2300" spc="-1" strike="noStrike">
                <a:solidFill>
                  <a:srgbClr val="ff6600"/>
                </a:solidFill>
                <a:latin typeface="Calibri"/>
              </a:rPr>
              <a:t>   + H</a:t>
            </a:r>
            <a:r>
              <a:rPr b="0" lang="en-GB" sz="2300" spc="-1" strike="noStrike" baseline="-25000">
                <a:solidFill>
                  <a:srgbClr val="ff6600"/>
                </a:solidFill>
                <a:latin typeface="Calibri"/>
              </a:rPr>
              <a:t>2</a:t>
            </a:r>
            <a:r>
              <a:rPr b="0" lang="en-GB" sz="2300" spc="-1" strike="noStrike">
                <a:solidFill>
                  <a:srgbClr val="ff6600"/>
                </a:solidFill>
                <a:latin typeface="Calibri"/>
              </a:rPr>
              <a:t> (g)  </a:t>
            </a:r>
            <a:r>
              <a:rPr b="0" lang="en-GB" sz="2300" spc="-1" strike="noStrike">
                <a:solidFill>
                  <a:srgbClr val="ff6600"/>
                </a:solidFill>
                <a:latin typeface="Symbol"/>
              </a:rPr>
              <a:t></a:t>
            </a:r>
            <a:r>
              <a:rPr b="0" lang="en-GB" sz="2300" spc="-1" strike="noStrike">
                <a:solidFill>
                  <a:srgbClr val="ff6600"/>
                </a:solidFill>
                <a:latin typeface="Calibri"/>
              </a:rPr>
              <a:t>   C</a:t>
            </a:r>
            <a:r>
              <a:rPr b="0" lang="en-GB" sz="2300" spc="-1" strike="noStrike" baseline="-25000">
                <a:solidFill>
                  <a:srgbClr val="ff6600"/>
                </a:solidFill>
                <a:latin typeface="Calibri"/>
              </a:rPr>
              <a:t>2</a:t>
            </a:r>
            <a:r>
              <a:rPr b="0" lang="en-US" sz="2300" spc="-1" strike="noStrike">
                <a:solidFill>
                  <a:srgbClr val="ff6600"/>
                </a:solidFill>
                <a:latin typeface="Calibri"/>
              </a:rPr>
              <a:t>H</a:t>
            </a:r>
            <a:r>
              <a:rPr b="0" lang="en-GB" sz="2300" spc="-1" strike="noStrike" baseline="-25000">
                <a:solidFill>
                  <a:srgbClr val="ff6600"/>
                </a:solidFill>
                <a:latin typeface="Calibri"/>
              </a:rPr>
              <a:t>6 </a:t>
            </a:r>
            <a:r>
              <a:rPr b="0" lang="en-GB" sz="2300" spc="-1" strike="noStrike">
                <a:solidFill>
                  <a:srgbClr val="ff6600"/>
                </a:solidFill>
                <a:latin typeface="Calibri"/>
              </a:rPr>
              <a:t>(g)</a:t>
            </a:r>
            <a:r>
              <a:rPr b="0" lang="en-GB" sz="2300" spc="-1" strike="noStrike" baseline="-25000">
                <a:solidFill>
                  <a:srgbClr val="ff66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ron (atoms) in the Haber proc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2300" spc="-1" strike="noStrike">
                <a:solidFill>
                  <a:srgbClr val="ff6600"/>
                </a:solidFill>
                <a:latin typeface="Calibri"/>
              </a:rPr>
              <a:t>N</a:t>
            </a:r>
            <a:r>
              <a:rPr b="0" lang="en-GB" sz="2300" spc="-1" strike="noStrike" baseline="-25000">
                <a:solidFill>
                  <a:srgbClr val="ff6600"/>
                </a:solidFill>
                <a:latin typeface="Calibri"/>
              </a:rPr>
              <a:t>2 </a:t>
            </a:r>
            <a:r>
              <a:rPr b="0" lang="en-GB" sz="2300" spc="-1" strike="noStrike">
                <a:solidFill>
                  <a:srgbClr val="ff6600"/>
                </a:solidFill>
                <a:latin typeface="Calibri"/>
              </a:rPr>
              <a:t>(g)</a:t>
            </a:r>
            <a:r>
              <a:rPr b="0" lang="en-GB" sz="2300" spc="-1" strike="noStrike" baseline="-25000">
                <a:solidFill>
                  <a:srgbClr val="ff6600"/>
                </a:solidFill>
                <a:latin typeface="Calibri"/>
              </a:rPr>
              <a:t>  </a:t>
            </a:r>
            <a:r>
              <a:rPr b="0" lang="en-GB" sz="2300" spc="-1" strike="noStrike">
                <a:solidFill>
                  <a:srgbClr val="ff6600"/>
                </a:solidFill>
                <a:latin typeface="Calibri"/>
              </a:rPr>
              <a:t>  +      3H</a:t>
            </a:r>
            <a:r>
              <a:rPr b="0" lang="en-US" sz="2300" spc="-1" strike="noStrike" baseline="-25000">
                <a:solidFill>
                  <a:srgbClr val="ff6600"/>
                </a:solidFill>
                <a:latin typeface="Calibri"/>
              </a:rPr>
              <a:t>2</a:t>
            </a:r>
            <a:r>
              <a:rPr b="0" lang="en-US" sz="2300" spc="-1" strike="noStrike">
                <a:solidFill>
                  <a:srgbClr val="ff6600"/>
                </a:solidFill>
                <a:latin typeface="Calibri"/>
              </a:rPr>
              <a:t> (g)</a:t>
            </a:r>
            <a:r>
              <a:rPr b="0" lang="en-GB" sz="23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en-GB" sz="2300" spc="-1" strike="noStrike">
                <a:solidFill>
                  <a:srgbClr val="ff6600"/>
                </a:solidFill>
                <a:latin typeface="Symbol"/>
              </a:rPr>
              <a:t></a:t>
            </a:r>
            <a:r>
              <a:rPr b="0" lang="en-GB" sz="2300" spc="-1" strike="noStrike">
                <a:solidFill>
                  <a:srgbClr val="ff6600"/>
                </a:solidFill>
                <a:latin typeface="Calibri"/>
              </a:rPr>
              <a:t>   2NH</a:t>
            </a:r>
            <a:r>
              <a:rPr b="0" lang="en-GB" sz="2300" spc="-1" strike="noStrike" baseline="-25000">
                <a:solidFill>
                  <a:srgbClr val="ff6600"/>
                </a:solidFill>
                <a:latin typeface="Calibri"/>
              </a:rPr>
              <a:t>3</a:t>
            </a:r>
            <a:r>
              <a:rPr b="0" lang="en-GB" sz="2300" spc="-1" strike="noStrike">
                <a:solidFill>
                  <a:srgbClr val="ff6600"/>
                </a:solidFill>
                <a:latin typeface="Calibri"/>
              </a:rPr>
              <a:t> (g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nganese dioxide in the decomposition of hydrogen peroxid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en-GB" sz="2800" spc="-1" strike="noStrike">
                <a:solidFill>
                  <a:srgbClr val="ff6600"/>
                </a:solidFill>
                <a:latin typeface="Calibri"/>
              </a:rPr>
              <a:t>2H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O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 (aq)</a:t>
            </a:r>
            <a:r>
              <a:rPr b="1" lang="en-GB" sz="28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en-GB" sz="2800" spc="-1" strike="noStrike">
                <a:solidFill>
                  <a:srgbClr val="ff6600"/>
                </a:solidFill>
                <a:latin typeface="Symbol"/>
              </a:rPr>
              <a:t></a:t>
            </a:r>
            <a:r>
              <a:rPr b="1" lang="en-GB" sz="2800" spc="-1" strike="noStrike">
                <a:solidFill>
                  <a:srgbClr val="ff66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O</a:t>
            </a:r>
            <a:r>
              <a:rPr b="1" lang="en-GB" sz="2800" spc="-1" strike="noStrike" baseline="-25000">
                <a:solidFill>
                  <a:srgbClr val="ff6600"/>
                </a:solidFill>
                <a:latin typeface="Calibri"/>
              </a:rPr>
              <a:t>2 </a:t>
            </a:r>
            <a:r>
              <a:rPr b="1" lang="en-GB" sz="2800" spc="-1" strike="noStrike">
                <a:solidFill>
                  <a:srgbClr val="ff6600"/>
                </a:solidFill>
                <a:latin typeface="Calibri"/>
              </a:rPr>
              <a:t>(g)</a:t>
            </a:r>
            <a:r>
              <a:rPr b="1" lang="en-GB" sz="2800" spc="-1" strike="noStrike" baseline="-25000">
                <a:solidFill>
                  <a:srgbClr val="ff6600"/>
                </a:solidFill>
                <a:latin typeface="Calibri"/>
              </a:rPr>
              <a:t>  </a:t>
            </a:r>
            <a:r>
              <a:rPr b="1" lang="en-GB" sz="2800" spc="-1" strike="noStrike">
                <a:solidFill>
                  <a:srgbClr val="ff6600"/>
                </a:solidFill>
                <a:latin typeface="Calibri"/>
              </a:rPr>
              <a:t>   +  2H</a:t>
            </a:r>
            <a:r>
              <a:rPr b="1" lang="en-GB" sz="2800" spc="-1" strike="noStrike" baseline="-25000">
                <a:solidFill>
                  <a:srgbClr val="ff6600"/>
                </a:solidFill>
                <a:latin typeface="Calibri"/>
              </a:rPr>
              <a:t>2</a:t>
            </a:r>
            <a:r>
              <a:rPr b="1" lang="en-GB" sz="2800" spc="-1" strike="noStrike">
                <a:solidFill>
                  <a:srgbClr val="ff6600"/>
                </a:solidFill>
                <a:latin typeface="Calibri"/>
              </a:rPr>
              <a:t>O (l)</a:t>
            </a: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alladium and platinum in a catalytic conver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obalt in manufacture of vitamin B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ron ions,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in the heme group which sits in the hemoglobin protein; it is a site which allows oxygen to be bonded more easily onto the hemoglobin molecu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me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Content Placeholder 3" descr=""/>
          <p:cNvPicPr/>
          <p:nvPr/>
        </p:nvPicPr>
        <p:blipFill>
          <a:blip r:embed="rId1"/>
          <a:srcRect l="-50439" t="0" r="-50439" b="0"/>
          <a:stretch/>
        </p:blipFill>
        <p:spPr>
          <a:xfrm>
            <a:off x="457200" y="1417680"/>
            <a:ext cx="822960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on oxidation st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385596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ogenous catalysi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12840" y="1599840"/>
            <a:ext cx="8593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verall:  S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(aq) + 2I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(aq) 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</a:rPr>
              <a:t>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 2SO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(aq) + I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(s)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Calibri"/>
              </a:rPr>
              <a:t>Using catalyst Fe</a:t>
            </a:r>
            <a:r>
              <a:rPr b="0" lang="en-GB" sz="2700" spc="-1" strike="noStrike" u="sng" baseline="30000">
                <a:solidFill>
                  <a:srgbClr val="000000"/>
                </a:solidFill>
                <a:uFillTx/>
                <a:latin typeface="Calibri"/>
              </a:rPr>
              <a:t>3+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Fe 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(aq)   +   2I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(aq)    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</a:rPr>
              <a:t>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  2Fe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 (aq)    +  I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(s)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2Fe 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(aq) + S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(aq)  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</a:rPr>
              <a:t>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 2Fe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(aq) + 2SO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(aq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raw energy level diagrams to show the effect of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using a homogenous catalys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omogenous catalysts provide a different reaction mechanism that lowers the activation energ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"/>
          <p:cNvSpPr/>
          <p:nvPr/>
        </p:nvSpPr>
        <p:spPr>
          <a:xfrm>
            <a:off x="1035000" y="285840"/>
            <a:ext cx="70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Lucida Sans"/>
              </a:rPr>
              <a:t>VARIABLE OXIDATION STATES OF IR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2098800" y="1263240"/>
            <a:ext cx="1044360" cy="459720"/>
          </a:xfrm>
          <a:prstGeom prst="rect">
            <a:avLst/>
          </a:prstGeom>
          <a:solidFill>
            <a:srgbClr val="c4bd97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Fe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  <a:ea typeface="ＭＳ Ｐゴシック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929200" y="1263240"/>
            <a:ext cx="1044720" cy="459720"/>
          </a:xfrm>
          <a:prstGeom prst="rect">
            <a:avLst/>
          </a:prstGeom>
          <a:solidFill>
            <a:srgbClr val="c4bd97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Fe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  <a:ea typeface="ＭＳ Ｐゴシック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Straight Arrow Connector 6"/>
          <p:cNvCxnSpPr/>
          <p:nvPr/>
        </p:nvCxnSpPr>
        <p:spPr>
          <a:xfrm flipV="1">
            <a:off x="3193920" y="1394640"/>
            <a:ext cx="2666160" cy="1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62" name="Straight Arrow Connector 7"/>
          <p:cNvCxnSpPr/>
          <p:nvPr/>
        </p:nvCxnSpPr>
        <p:spPr>
          <a:xfrm flipH="1" flipV="1">
            <a:off x="3193560" y="1608840"/>
            <a:ext cx="2666160" cy="1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63" name="TextBox 8"/>
          <p:cNvSpPr/>
          <p:nvPr/>
        </p:nvSpPr>
        <p:spPr>
          <a:xfrm>
            <a:off x="3457440" y="8953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Lucida Sans"/>
              </a:rPr>
              <a:t>RE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3457440" y="16095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Lucida Sans"/>
              </a:rPr>
              <a:t>OXI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14360" y="2214720"/>
            <a:ext cx="830088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Reduction carried using </a:t>
            </a: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excess granulated Z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in </a:t>
            </a: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dilute sulphuric ac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2Fe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3+   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+  Zn  </a:t>
            </a:r>
            <a:r>
              <a:rPr b="0" lang="en-GB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  2Fe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2+   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+  Zn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Excess zinc can be filtered off after redu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Oxidation can be carried out using </a:t>
            </a: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excess H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Lucida San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O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Lucida San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(aq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in </a:t>
            </a: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dilute NaOH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2Fe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2+   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+  H</a:t>
            </a:r>
            <a:r>
              <a:rPr b="0" lang="en-GB" sz="20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O</a:t>
            </a:r>
            <a:r>
              <a:rPr b="0" lang="en-GB" sz="20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  </a:t>
            </a:r>
            <a:r>
              <a:rPr b="0" lang="en-GB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  2Fe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3+   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+  2OH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Iron(III) will form Fe(OH)</a:t>
            </a:r>
            <a:r>
              <a:rPr b="0" lang="en-GB" sz="2000" spc="-1" strike="noStrike" baseline="-25000">
                <a:solidFill>
                  <a:srgbClr val="0000ff"/>
                </a:solidFill>
                <a:latin typeface="Lucida Sans"/>
              </a:rPr>
              <a:t>3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(s) in alk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Converted to Fe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3+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(aq) by adding dil. ac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Fe(OH)</a:t>
            </a:r>
            <a:r>
              <a:rPr b="0" lang="en-GB" sz="2000" spc="-1" strike="noStrike" baseline="-25000">
                <a:solidFill>
                  <a:srgbClr val="0000ff"/>
                </a:solidFill>
                <a:latin typeface="Lucida Sans"/>
              </a:rPr>
              <a:t>3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(s)  +  3H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+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(aq)  </a:t>
            </a:r>
            <a:r>
              <a:rPr b="0" lang="en-GB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  Fe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3+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(aq)  +  3H</a:t>
            </a:r>
            <a:r>
              <a:rPr b="0" lang="en-GB" sz="20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O(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3">
            <a:hlinkClick r:id="" action="ppaction://hlinkshowjump?jump=nextslide"/>
          </p:cNvPr>
          <p:cNvSpPr/>
          <p:nvPr/>
        </p:nvSpPr>
        <p:spPr>
          <a:xfrm>
            <a:off x="8459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947880" y="12621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Br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3"/>
          <p:cNvSpPr/>
          <p:nvPr/>
        </p:nvSpPr>
        <p:spPr>
          <a:xfrm>
            <a:off x="6977160" y="12715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Pale gr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99960" y="152280"/>
            <a:ext cx="67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Lucida Sans"/>
              </a:rPr>
              <a:t>OXIDATION STATES OF CHROM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Group 46"/>
          <p:cNvGrpSpPr/>
          <p:nvPr/>
        </p:nvGrpSpPr>
        <p:grpSpPr>
          <a:xfrm>
            <a:off x="519120" y="762120"/>
            <a:ext cx="838080" cy="4341600"/>
            <a:chOff x="519120" y="762120"/>
            <a:chExt cx="838080" cy="4341600"/>
          </a:xfrm>
        </p:grpSpPr>
        <p:sp>
          <p:nvSpPr>
            <p:cNvPr id="171" name="Text Box 5"/>
            <p:cNvSpPr/>
            <p:nvPr/>
          </p:nvSpPr>
          <p:spPr>
            <a:xfrm>
              <a:off x="519120" y="762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Lucida Sans"/>
                </a:rPr>
                <a:t>+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9120" y="2702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Lucida San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Text Box 7"/>
            <p:cNvSpPr/>
            <p:nvPr/>
          </p:nvSpPr>
          <p:spPr>
            <a:xfrm>
              <a:off x="519120" y="4644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Lucida San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938160" y="1333080"/>
              <a:ext cx="0" cy="1260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Line 9"/>
            <p:cNvSpPr/>
            <p:nvPr/>
          </p:nvSpPr>
          <p:spPr>
            <a:xfrm>
              <a:off x="938160" y="3274200"/>
              <a:ext cx="0" cy="1260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Text Box 16"/>
          <p:cNvSpPr/>
          <p:nvPr/>
        </p:nvSpPr>
        <p:spPr>
          <a:xfrm>
            <a:off x="1442880" y="4643280"/>
            <a:ext cx="221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[Cr(H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O)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6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26"/>
          <p:cNvSpPr/>
          <p:nvPr/>
        </p:nvSpPr>
        <p:spPr>
          <a:xfrm>
            <a:off x="1498320" y="2703600"/>
            <a:ext cx="160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[Cr(OH)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6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8"/>
          <p:cNvSpPr/>
          <p:nvPr/>
        </p:nvSpPr>
        <p:spPr>
          <a:xfrm>
            <a:off x="6754320" y="2703600"/>
            <a:ext cx="174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[Cr(H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O)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6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476720" y="762120"/>
            <a:ext cx="9943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CrO</a:t>
            </a:r>
            <a:r>
              <a:rPr b="0" lang="en-GB" sz="2400" spc="-1" strike="noStrike" baseline="-30000">
                <a:solidFill>
                  <a:srgbClr val="0000ff"/>
                </a:solidFill>
                <a:latin typeface="Lucida Sans"/>
              </a:rPr>
              <a:t>4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1428840" y="122868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= chromate(V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4429080" y="1228680"/>
            <a:ext cx="27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= dichromate(V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492080" y="762120"/>
            <a:ext cx="109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Cr</a:t>
            </a:r>
            <a:r>
              <a:rPr b="0" lang="en-GB" sz="2400" spc="-1" strike="noStrike" baseline="-30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O</a:t>
            </a:r>
            <a:r>
              <a:rPr b="0" lang="en-GB" sz="2400" spc="-1" strike="noStrike" baseline="-30000">
                <a:solidFill>
                  <a:srgbClr val="0000ff"/>
                </a:solidFill>
                <a:latin typeface="Lucida Sans"/>
              </a:rPr>
              <a:t>7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35"/>
          <p:cNvSpPr/>
          <p:nvPr/>
        </p:nvSpPr>
        <p:spPr>
          <a:xfrm>
            <a:off x="1442880" y="317196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=  hexahydroxo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chromium(III) 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36"/>
          <p:cNvSpPr/>
          <p:nvPr/>
        </p:nvSpPr>
        <p:spPr>
          <a:xfrm>
            <a:off x="6675480" y="31719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=  hexaaquo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chromium(III) 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1442880" y="5141880"/>
            <a:ext cx="25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=  hexaaquo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chromium(II) 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008600" y="2714760"/>
            <a:ext cx="239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[Cr(H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O)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5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(OH)]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39"/>
          <p:cNvSpPr/>
          <p:nvPr/>
        </p:nvSpPr>
        <p:spPr>
          <a:xfrm>
            <a:off x="3871800" y="318276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=  pentaaquohydoxo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  <a:ea typeface="ＭＳ Ｐゴシック"/>
              </a:rPr>
              <a:t>chromium(III) 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40"/>
          <p:cNvSpPr/>
          <p:nvPr/>
        </p:nvSpPr>
        <p:spPr>
          <a:xfrm>
            <a:off x="1428840" y="167148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660066"/>
                </a:solidFill>
                <a:latin typeface="Lucida Sans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41"/>
          <p:cNvSpPr/>
          <p:nvPr/>
        </p:nvSpPr>
        <p:spPr>
          <a:xfrm>
            <a:off x="4429080" y="16430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660066"/>
                </a:solidFill>
                <a:latin typeface="Lucida Sans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42"/>
          <p:cNvSpPr/>
          <p:nvPr/>
        </p:nvSpPr>
        <p:spPr>
          <a:xfrm>
            <a:off x="1442880" y="387180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660066"/>
                </a:solidFill>
                <a:latin typeface="Lucida Sans"/>
              </a:rPr>
              <a:t>DARK GRE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43"/>
          <p:cNvSpPr/>
          <p:nvPr/>
        </p:nvSpPr>
        <p:spPr>
          <a:xfrm>
            <a:off x="4500720" y="38718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660066"/>
                </a:solidFill>
                <a:latin typeface="Lucida Sans"/>
              </a:rPr>
              <a:t>GRE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44"/>
          <p:cNvSpPr/>
          <p:nvPr/>
        </p:nvSpPr>
        <p:spPr>
          <a:xfrm>
            <a:off x="7104240" y="38718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660066"/>
                </a:solidFill>
                <a:latin typeface="Lucida Sans"/>
              </a:rPr>
              <a:t>RU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45"/>
          <p:cNvSpPr/>
          <p:nvPr/>
        </p:nvSpPr>
        <p:spPr>
          <a:xfrm>
            <a:off x="1857240" y="581508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660066"/>
                </a:solidFill>
                <a:latin typeface="Lucida Sans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ight Brace 47"/>
          <p:cNvSpPr/>
          <p:nvPr/>
        </p:nvSpPr>
        <p:spPr>
          <a:xfrm rot="5400000">
            <a:off x="5997240" y="2360160"/>
            <a:ext cx="360360" cy="421164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4211640"/>
              <a:gd name="textAreaBottom" fmla="*/ 4202280 h 421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"/>
                  <a:pt x="10800" y="154"/>
                </a:cubicBezTo>
                <a:lnTo>
                  <a:pt x="10800" y="10646"/>
                </a:lnTo>
                <a:cubicBezTo>
                  <a:pt x="10800" y="10723"/>
                  <a:pt x="16200" y="10800"/>
                  <a:pt x="21600" y="10800"/>
                </a:cubicBezTo>
                <a:cubicBezTo>
                  <a:pt x="16200" y="10800"/>
                  <a:pt x="10800" y="10877"/>
                  <a:pt x="10800" y="10954"/>
                </a:cubicBezTo>
                <a:lnTo>
                  <a:pt x="10800" y="21446"/>
                </a:lnTo>
                <a:cubicBezTo>
                  <a:pt x="10800" y="21523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48"/>
          <p:cNvSpPr/>
          <p:nvPr/>
        </p:nvSpPr>
        <p:spPr>
          <a:xfrm>
            <a:off x="4857840" y="4643280"/>
            <a:ext cx="36432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Exist in equilibrium in aqueous solu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GREEN predomina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Ruby in crystal 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at very low p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3">
            <a:hlinkClick r:id="" action="ppaction://hlinkshowjump?jump=nextslide"/>
          </p:cNvPr>
          <p:cNvSpPr/>
          <p:nvPr/>
        </p:nvSpPr>
        <p:spPr>
          <a:xfrm>
            <a:off x="8640720" y="62866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685800" y="28584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Lucida Sans"/>
              </a:rPr>
              <a:t>OXIDATION STATES OF COBA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Group 20"/>
          <p:cNvGrpSpPr/>
          <p:nvPr/>
        </p:nvGrpSpPr>
        <p:grpSpPr>
          <a:xfrm>
            <a:off x="685800" y="1198440"/>
            <a:ext cx="838080" cy="4345920"/>
            <a:chOff x="685800" y="1198440"/>
            <a:chExt cx="838080" cy="4345920"/>
          </a:xfrm>
        </p:grpSpPr>
        <p:sp>
          <p:nvSpPr>
            <p:cNvPr id="199" name="Text Box 6"/>
            <p:cNvSpPr/>
            <p:nvPr/>
          </p:nvSpPr>
          <p:spPr>
            <a:xfrm>
              <a:off x="685800" y="11984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Lucida San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7"/>
            <p:cNvSpPr/>
            <p:nvPr/>
          </p:nvSpPr>
          <p:spPr>
            <a:xfrm>
              <a:off x="685800" y="50846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Lucida San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>
              <a:off x="1104840" y="1655640"/>
              <a:ext cx="0" cy="3429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Rectangle 9"/>
          <p:cNvSpPr/>
          <p:nvPr/>
        </p:nvSpPr>
        <p:spPr>
          <a:xfrm>
            <a:off x="1643040" y="16430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Lucida Sans"/>
              </a:rPr>
              <a:t>PINK / RE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Line 10"/>
          <p:cNvSpPr/>
          <p:nvPr/>
        </p:nvSpPr>
        <p:spPr>
          <a:xfrm>
            <a:off x="2286000" y="2114640"/>
            <a:ext cx="0" cy="2952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2271600" y="3211560"/>
            <a:ext cx="17226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Lucida Sans"/>
              </a:rPr>
              <a:t>OXID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by heat with 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O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Lucida Sans"/>
              </a:rPr>
              <a:t>2 </a:t>
            </a: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in NaOH(aq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1328760" y="55292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Lucida Sans"/>
              </a:rPr>
              <a:t>DARK BR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Line 13"/>
          <p:cNvSpPr/>
          <p:nvPr/>
        </p:nvSpPr>
        <p:spPr>
          <a:xfrm>
            <a:off x="3989520" y="1446120"/>
            <a:ext cx="1368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5410080" y="16430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Lucida Sans"/>
              </a:rPr>
              <a:t>STRAW YELLOW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5410080" y="20210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Lucida Sans"/>
              </a:rPr>
              <a:t>UNSTABL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ine 16"/>
          <p:cNvSpPr/>
          <p:nvPr/>
        </p:nvSpPr>
        <p:spPr>
          <a:xfrm flipH="1">
            <a:off x="6643440" y="2500200"/>
            <a:ext cx="3240" cy="2627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6643800" y="3211560"/>
            <a:ext cx="192888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Lucida Sans"/>
              </a:rPr>
              <a:t>OXID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Quickly by 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O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Lucida Sans"/>
              </a:rPr>
              <a:t>2 </a:t>
            </a: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in N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Lucida Sans"/>
              </a:rPr>
              <a:t>3</a:t>
            </a: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(aq) or slowly by O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 from 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8"/>
          <p:cNvSpPr/>
          <p:nvPr/>
        </p:nvSpPr>
        <p:spPr>
          <a:xfrm>
            <a:off x="5843520" y="5529240"/>
            <a:ext cx="26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Lucida Sans"/>
              </a:rPr>
              <a:t>DARK R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6072120" y="5929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Lucida Sans"/>
              </a:rPr>
              <a:t>S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3957480" y="1042920"/>
            <a:ext cx="129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+ Ex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 </a:t>
            </a:r>
            <a:r>
              <a:rPr b="0" lang="en-GB" sz="1800" spc="-1" strike="noStrike">
                <a:solidFill>
                  <a:srgbClr val="0000ff"/>
                </a:solidFill>
                <a:latin typeface="Lucida Sans"/>
              </a:rPr>
              <a:t>N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Lucida San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1592280" y="1200240"/>
            <a:ext cx="23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[Co(H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O)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6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</a:rPr>
              <a:t>2+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22"/>
          <p:cNvSpPr/>
          <p:nvPr/>
        </p:nvSpPr>
        <p:spPr>
          <a:xfrm>
            <a:off x="1551960" y="5100480"/>
            <a:ext cx="1632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Co(OH)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3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5447520" y="1200240"/>
            <a:ext cx="234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[Co(NH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3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)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6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</a:rPr>
              <a:t>2+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5447520" y="5100480"/>
            <a:ext cx="234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[Co(NH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3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)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6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</a:rPr>
              <a:t>3+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AutoShape 3">
            <a:hlinkClick r:id="" action="ppaction://hlinkshowjump?jump=nextslide"/>
          </p:cNvPr>
          <p:cNvSpPr/>
          <p:nvPr/>
        </p:nvSpPr>
        <p:spPr>
          <a:xfrm>
            <a:off x="8640720" y="63579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500040" y="19044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Lucida Sans"/>
              </a:rPr>
              <a:t>OXIDATION STATES OF CO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Group 20"/>
          <p:cNvGrpSpPr/>
          <p:nvPr/>
        </p:nvGrpSpPr>
        <p:grpSpPr>
          <a:xfrm>
            <a:off x="285840" y="957240"/>
            <a:ext cx="838080" cy="3117240"/>
            <a:chOff x="285840" y="957240"/>
            <a:chExt cx="838080" cy="3117240"/>
          </a:xfrm>
        </p:grpSpPr>
        <p:sp>
          <p:nvSpPr>
            <p:cNvPr id="221" name="Text Box 6"/>
            <p:cNvSpPr/>
            <p:nvPr/>
          </p:nvSpPr>
          <p:spPr>
            <a:xfrm>
              <a:off x="285840" y="9572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Lucida San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 Box 7"/>
            <p:cNvSpPr/>
            <p:nvPr/>
          </p:nvSpPr>
          <p:spPr>
            <a:xfrm>
              <a:off x="285840" y="36147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Lucida San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Line 8"/>
            <p:cNvSpPr/>
            <p:nvPr/>
          </p:nvSpPr>
          <p:spPr>
            <a:xfrm>
              <a:off x="704880" y="1414440"/>
              <a:ext cx="0" cy="2160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Rectangle 10"/>
          <p:cNvSpPr/>
          <p:nvPr/>
        </p:nvSpPr>
        <p:spPr>
          <a:xfrm>
            <a:off x="1994760" y="952560"/>
            <a:ext cx="181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[Cu(H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O)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6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2304720" y="3581280"/>
            <a:ext cx="119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[CuCl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Line 8"/>
          <p:cNvSpPr/>
          <p:nvPr/>
        </p:nvSpPr>
        <p:spPr>
          <a:xfrm flipV="1">
            <a:off x="2900520" y="1917360"/>
            <a:ext cx="0" cy="158436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1971720" y="142884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Lucida Sans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1820880" y="403848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Lucida Sans"/>
              </a:rPr>
              <a:t>COLOUR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Line 8"/>
          <p:cNvSpPr/>
          <p:nvPr/>
        </p:nvSpPr>
        <p:spPr>
          <a:xfrm flipV="1">
            <a:off x="2900520" y="4501800"/>
            <a:ext cx="0" cy="108108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2319480" y="56102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CuCl(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17"/>
          <p:cNvSpPr/>
          <p:nvPr/>
        </p:nvSpPr>
        <p:spPr>
          <a:xfrm>
            <a:off x="1820880" y="606744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Lucida Sans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8"/>
          <p:cNvSpPr/>
          <p:nvPr/>
        </p:nvSpPr>
        <p:spPr>
          <a:xfrm>
            <a:off x="4590360" y="957240"/>
            <a:ext cx="264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[Cu(H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O)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Lucida Sans"/>
              </a:rPr>
              <a:t>6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400" spc="-1" strike="noStrike" baseline="30000">
                <a:solidFill>
                  <a:srgbClr val="0000ff"/>
                </a:solidFill>
                <a:latin typeface="Lucida Sans"/>
              </a:rPr>
              <a:t>2+ </a:t>
            </a: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 +  C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5437080" y="1922400"/>
            <a:ext cx="0" cy="158436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20"/>
          <p:cNvSpPr/>
          <p:nvPr/>
        </p:nvSpPr>
        <p:spPr>
          <a:xfrm>
            <a:off x="4506840" y="1433520"/>
            <a:ext cx="18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Lucida Sans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4855320" y="35812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Lucida Sans"/>
              </a:rPr>
              <a:t>CuCl(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22"/>
          <p:cNvSpPr/>
          <p:nvPr/>
        </p:nvSpPr>
        <p:spPr>
          <a:xfrm>
            <a:off x="4357800" y="403848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Lucida Sans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23"/>
          <p:cNvSpPr/>
          <p:nvPr/>
        </p:nvSpPr>
        <p:spPr>
          <a:xfrm>
            <a:off x="1243080" y="2014560"/>
            <a:ext cx="1714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RE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by heating with copper in conc. HC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24"/>
          <p:cNvSpPr/>
          <p:nvPr/>
        </p:nvSpPr>
        <p:spPr>
          <a:xfrm>
            <a:off x="757080" y="4670280"/>
            <a:ext cx="23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PRECIP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by adding 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5"/>
          <p:cNvSpPr/>
          <p:nvPr/>
        </p:nvSpPr>
        <p:spPr>
          <a:xfrm>
            <a:off x="4071960" y="2322360"/>
            <a:ext cx="3085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DISPROPO RTIO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by adding  dil. H</a:t>
            </a:r>
            <a:r>
              <a:rPr b="0" lang="en-GB" sz="20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SO</a:t>
            </a:r>
            <a:r>
              <a:rPr b="0" lang="en-GB" sz="2000" spc="-1" strike="noStrike" baseline="-25000">
                <a:solidFill>
                  <a:srgbClr val="0000ff"/>
                </a:solidFill>
                <a:latin typeface="Lucida San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6"/>
          <p:cNvSpPr/>
          <p:nvPr/>
        </p:nvSpPr>
        <p:spPr>
          <a:xfrm>
            <a:off x="4071960" y="4992840"/>
            <a:ext cx="4572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Lucida Sans"/>
              </a:rPr>
              <a:t>Note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: Copper(I) oxide, Cu</a:t>
            </a:r>
            <a:r>
              <a:rPr b="0" lang="en-GB" sz="2000" spc="-1" strike="noStrike" baseline="-25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O is the brick-red ppt. formed during a positive Fehling’s te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3">
            <a:hlinkClick r:id="" action="ppaction://hlinkshowjump?jump=nextslide"/>
          </p:cNvPr>
          <p:cNvSpPr/>
          <p:nvPr/>
        </p:nvSpPr>
        <p:spPr>
          <a:xfrm>
            <a:off x="8640720" y="63579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457200" y="133200"/>
          <a:ext cx="8229600" cy="6650280"/>
        </p:xfrm>
        <a:graphic>
          <a:graphicData uri="http://schemas.openxmlformats.org/drawingml/2006/table">
            <a:tbl>
              <a:tblPr/>
              <a:tblGrid>
                <a:gridCol w="3371760"/>
                <a:gridCol w="246240"/>
                <a:gridCol w="4611600"/>
              </a:tblGrid>
              <a:tr h="920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ical prope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tch up correct explana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Form coloured compou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Variable oxidation states and empty orbit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Can acts as a cataly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Transition metal ions have high charge dens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35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Variable oxidation st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Partially filled split 3d sublevel and d-to-d transi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Can form complexes or complex ions with negative ions and molec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3d sublevel to be filled closer to nucleus than 4s sublevel. Increased shielding offsets increased nuclear charge. Similar atomic rad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3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. Magnetic proper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Small differences in successive ionization energies in 4s and 3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. Similar first ionization energ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Unpaired 3d electron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uccessive ionization energ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2647800"/>
          <a:ext cx="8229600" cy="3560760"/>
        </p:xfrm>
        <a:graphic>
          <a:graphicData uri="http://schemas.openxmlformats.org/drawingml/2006/table">
            <a:tbl>
              <a:tblPr/>
              <a:tblGrid>
                <a:gridCol w="2021040"/>
                <a:gridCol w="3465360"/>
                <a:gridCol w="2743200"/>
              </a:tblGrid>
              <a:tr h="59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E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J mol 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3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5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5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3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8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2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7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8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3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16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6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3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2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5" name="TextBox 5"/>
          <p:cNvSpPr/>
          <p:nvPr/>
        </p:nvSpPr>
        <p:spPr>
          <a:xfrm>
            <a:off x="457200" y="1411200"/>
            <a:ext cx="786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 the successive ionization energies of aluminium and vanad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ansition metals/elements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ransition element is a d-block element that has an atom with a partially filled d-sub-level or that forms at least one stable cation that has a partially filled d-sub-level. (IUPAC definitio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s a result according to the above definition zinc is not considered a transition met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mplex ion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213520" y="3983040"/>
            <a:ext cx="3162240" cy="2565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5213520" y="1417680"/>
            <a:ext cx="3162240" cy="256536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7" descr=""/>
          <p:cNvPicPr/>
          <p:nvPr/>
        </p:nvPicPr>
        <p:blipFill>
          <a:blip r:embed="rId3"/>
          <a:srcRect l="0" t="-19172" r="-97837" b="-4968"/>
          <a:stretch/>
        </p:blipFill>
        <p:spPr>
          <a:xfrm>
            <a:off x="457200" y="11714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4"/>
          <p:cNvSpPr/>
          <p:nvPr/>
        </p:nvSpPr>
        <p:spPr>
          <a:xfrm>
            <a:off x="411120" y="4040280"/>
            <a:ext cx="780408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7"/>
          <p:cNvSpPr/>
          <p:nvPr/>
        </p:nvSpPr>
        <p:spPr>
          <a:xfrm>
            <a:off x="409680" y="723960"/>
            <a:ext cx="7805520" cy="1260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409680" y="209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Lucida Sans"/>
              </a:rPr>
              <a:t>TRANSITION METAL COMPLEX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409680" y="73836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= central METAL ION (or atom) wit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635040" y="111924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a </a:t>
            </a: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FIXED number 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of MOLECULES or AN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649440" y="1500120"/>
            <a:ext cx="78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bonded to it </a:t>
            </a: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by DATIVE (COORDINATE) bonds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333360" y="2116080"/>
            <a:ext cx="75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i="1" lang="en-GB" sz="2000" spc="-1" strike="noStrike">
                <a:solidFill>
                  <a:srgbClr val="0000ff"/>
                </a:solidFill>
                <a:latin typeface="Lucida Sans"/>
              </a:rPr>
              <a:t>“</a:t>
            </a:r>
            <a:r>
              <a:rPr b="0" i="1" lang="en-GB" sz="2000" spc="-1" strike="noStrike">
                <a:solidFill>
                  <a:srgbClr val="0000ff"/>
                </a:solidFill>
                <a:latin typeface="Lucida Sans"/>
              </a:rPr>
              <a:t>COMPLEX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2428920" y="2116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have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Lucida Sans"/>
              </a:rPr>
              <a:t>no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 net ch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5286240" y="2116080"/>
            <a:ext cx="20574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eg Ni(CO)</a:t>
            </a:r>
            <a:r>
              <a:rPr b="0" lang="en-GB" sz="2000" spc="-1" strike="noStrike" baseline="-30000">
                <a:solidFill>
                  <a:srgbClr val="0000ff"/>
                </a:solidFill>
                <a:latin typeface="Lucida San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333360" y="2577960"/>
            <a:ext cx="82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i="1" lang="en-GB" sz="2000" spc="-1" strike="noStrike">
                <a:solidFill>
                  <a:srgbClr val="0000ff"/>
                </a:solidFill>
                <a:latin typeface="Lucida Sans"/>
              </a:rPr>
              <a:t>“</a:t>
            </a:r>
            <a:r>
              <a:rPr b="0" i="1" lang="en-GB" sz="2000" spc="-1" strike="noStrike">
                <a:solidFill>
                  <a:srgbClr val="0000ff"/>
                </a:solidFill>
                <a:latin typeface="Lucida Sans"/>
              </a:rPr>
              <a:t>COMPLEX </a:t>
            </a:r>
            <a:r>
              <a:rPr b="0" i="1" lang="en-GB" sz="2000" spc="-1" strike="noStrike" u="sng">
                <a:solidFill>
                  <a:srgbClr val="0000ff"/>
                </a:solidFill>
                <a:uFillTx/>
                <a:latin typeface="Lucida Sans"/>
              </a:rPr>
              <a:t>ION</a:t>
            </a:r>
            <a:r>
              <a:rPr b="0" i="1" lang="en-GB" sz="2000" spc="-1" strike="noStrike">
                <a:solidFill>
                  <a:srgbClr val="0000ff"/>
                </a:solidFill>
                <a:latin typeface="Lucida San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2428920" y="2577960"/>
            <a:ext cx="299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have a net ch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2786040" y="3071880"/>
            <a:ext cx="20574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eg [CuCl</a:t>
            </a:r>
            <a:r>
              <a:rPr b="0" lang="en-GB" sz="2000" spc="-1" strike="noStrike" baseline="-30000">
                <a:solidFill>
                  <a:srgbClr val="0000ff"/>
                </a:solidFill>
                <a:latin typeface="Lucida Sans"/>
              </a:rPr>
              <a:t>4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 2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9"/>
          <p:cNvSpPr/>
          <p:nvPr/>
        </p:nvSpPr>
        <p:spPr>
          <a:xfrm>
            <a:off x="3157560" y="3500280"/>
            <a:ext cx="20574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[Ni(H</a:t>
            </a:r>
            <a:r>
              <a:rPr b="0" lang="en-GB" sz="2000" spc="-1" strike="noStrike" baseline="-30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O)</a:t>
            </a:r>
            <a:r>
              <a:rPr b="0" lang="en-GB" sz="2000" spc="-1" strike="noStrike" baseline="-30000">
                <a:solidFill>
                  <a:srgbClr val="0000ff"/>
                </a:solidFill>
                <a:latin typeface="Lucida Sans"/>
              </a:rPr>
              <a:t>6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 2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4809960" y="3071880"/>
            <a:ext cx="33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= </a:t>
            </a: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anionic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 (-ve) compl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4809960" y="3525840"/>
            <a:ext cx="39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= </a:t>
            </a: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cationic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 (+ve) compl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2"/>
          <p:cNvSpPr/>
          <p:nvPr/>
        </p:nvSpPr>
        <p:spPr>
          <a:xfrm>
            <a:off x="423720" y="40734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Ligands have </a:t>
            </a: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LONE PAIR(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592920" y="4459320"/>
            <a:ext cx="66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which can be shared with incomplete d-subshell of 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469800" y="4844880"/>
            <a:ext cx="815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to form the coordinate bond(s), and hence the compl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9"/>
          <p:cNvSpPr/>
          <p:nvPr/>
        </p:nvSpPr>
        <p:spPr>
          <a:xfrm>
            <a:off x="5926680" y="1119240"/>
            <a:ext cx="21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(called </a:t>
            </a:r>
            <a:r>
              <a:rPr b="0" lang="en-GB" sz="2000" spc="-1" strike="noStrike">
                <a:solidFill>
                  <a:srgbClr val="ff0000"/>
                </a:solidFill>
                <a:latin typeface="Lucida Sans"/>
              </a:rPr>
              <a:t>LIGANDS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0"/>
          <p:cNvSpPr/>
          <p:nvPr/>
        </p:nvSpPr>
        <p:spPr>
          <a:xfrm>
            <a:off x="312840" y="5559480"/>
            <a:ext cx="20574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eg [CuCl</a:t>
            </a:r>
            <a:r>
              <a:rPr b="0" lang="en-GB" sz="2000" spc="-1" strike="noStrike" baseline="-30000">
                <a:solidFill>
                  <a:srgbClr val="0000ff"/>
                </a:solidFill>
                <a:latin typeface="Lucida Sans"/>
              </a:rPr>
              <a:t>4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 2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1"/>
          <p:cNvSpPr/>
          <p:nvPr/>
        </p:nvSpPr>
        <p:spPr>
          <a:xfrm>
            <a:off x="685800" y="5959440"/>
            <a:ext cx="20574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[Ni(H</a:t>
            </a:r>
            <a:r>
              <a:rPr b="0" lang="en-GB" sz="2000" spc="-1" strike="noStrike" baseline="-30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O)</a:t>
            </a:r>
            <a:r>
              <a:rPr b="0" lang="en-GB" sz="2000" spc="-1" strike="noStrike" baseline="-30000">
                <a:solidFill>
                  <a:srgbClr val="0000ff"/>
                </a:solidFill>
                <a:latin typeface="Lucida Sans"/>
              </a:rPr>
              <a:t>6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]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 2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2"/>
          <p:cNvSpPr/>
          <p:nvPr/>
        </p:nvSpPr>
        <p:spPr>
          <a:xfrm>
            <a:off x="2357280" y="55594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ligand is :Cl</a:t>
            </a:r>
            <a:r>
              <a:rPr b="0" lang="en-GB" sz="2000" spc="-1" strike="noStrike" baseline="30000">
                <a:solidFill>
                  <a:srgbClr val="0000ff"/>
                </a:solidFill>
                <a:latin typeface="Lucida Sans"/>
              </a:rPr>
              <a:t>-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33"/>
          <p:cNvSpPr/>
          <p:nvPr/>
        </p:nvSpPr>
        <p:spPr>
          <a:xfrm>
            <a:off x="2357280" y="6000840"/>
            <a:ext cx="32180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ligand is H</a:t>
            </a:r>
            <a:r>
              <a:rPr b="0" lang="en-GB" sz="2000" spc="-1" strike="noStrike" baseline="-30000">
                <a:solidFill>
                  <a:srgbClr val="0000ff"/>
                </a:solidFill>
                <a:latin typeface="Lucida Sans"/>
              </a:rPr>
              <a:t>2</a:t>
            </a:r>
            <a:r>
              <a:rPr b="0" lang="en-GB" sz="2000" spc="-1" strike="noStrike">
                <a:solidFill>
                  <a:srgbClr val="0000ff"/>
                </a:solidFill>
                <a:latin typeface="Lucida Sans"/>
              </a:rPr>
              <a:t>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3">
            <a:hlinkClick r:id="" action="ppaction://hlinkshowjump?jump=nextslide"/>
          </p:cNvPr>
          <p:cNvSpPr/>
          <p:nvPr/>
        </p:nvSpPr>
        <p:spPr>
          <a:xfrm>
            <a:off x="8626320" y="1857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mplex 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417320"/>
            <a:ext cx="88819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nsition metals can form complex ions because their ions have a high charge density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Calibri"/>
              </a:rPr>
              <a:t>they have quite a large nuclear charge but a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re relatively small</a:t>
            </a:r>
            <a:r>
              <a:rPr b="0" lang="en-GB" sz="3200" spc="-1" strike="noStrike">
                <a:solidFill>
                  <a:srgbClr val="ff66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Calibri"/>
              </a:rPr>
              <a:t>the 3d electrons are 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not so e</a:t>
            </a:r>
            <a:r>
              <a:rPr b="0" lang="en-GB" sz="3200" spc="-1" strike="noStrike">
                <a:solidFill>
                  <a:srgbClr val="ff6600"/>
                </a:solidFill>
                <a:latin typeface="Calibri"/>
              </a:rPr>
              <a:t>ffective 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(as 2s or 2p electrons) </a:t>
            </a:r>
            <a:r>
              <a:rPr b="0" lang="en-GB" sz="3200" spc="-1" strike="noStrike">
                <a:solidFill>
                  <a:srgbClr val="ff6600"/>
                </a:solidFill>
                <a:latin typeface="Calibri"/>
              </a:rPr>
              <a:t>at shielding the effect of the ionic charge which really comes from the nucleus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allows the transi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ons to have a great polarising power and they can attract lone pairs from other atoms to form complex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4T02:05:03Z</dcterms:created>
  <dc:creator>Nico Van De Casteele</dc:creator>
  <dc:description/>
  <dc:language>en-US</dc:language>
  <cp:lastModifiedBy>Nico Van De Casteele</cp:lastModifiedBy>
  <dcterms:modified xsi:type="dcterms:W3CDTF">2017-11-22T06:18:46Z</dcterms:modified>
  <cp:revision>80</cp:revision>
  <dc:subject/>
  <dc:title>Transition metals</dc:title>
</cp:coreProperties>
</file>